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BF08-4A2A-4149-904A-08860F6A4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63B7-D2C0-4B2D-9484-A917F7D4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96D1-61E0-4F48-B13E-66D3E0C0D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8E69-1C5B-412C-B5AB-34ECBA184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7487-AFCB-4FC4-A400-C6CF0A200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B9AE-34B2-42E1-B49F-55E7E42D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C2CF2-975E-4478-9315-C5CA3BD8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4CDD-CCAF-485A-AF38-1CC11B8F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103B-59A5-4AE1-9AF5-A258B594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A32F-0A9E-4796-88B4-98F48618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55DC-85B6-4276-8DD9-17109A5B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7E02-87BE-4BBC-A8AC-30925815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9096-11EA-44CA-A143-1421DDEF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0A5B-937A-4E26-8CD3-E7382026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BA88-B728-48F6-B0CA-1B1F39B2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8DFE-C564-44C7-A2C8-1BF9C038F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3F81-C2A2-4EAA-8552-DFC573408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D127-27F7-47ED-ADA3-8C2C6FBB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4F15-677A-4999-90D1-90BB00EA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43ED-532B-4C34-A05F-D4698DB4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33B2-96C7-49F7-9DEF-F4F3D683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0743-BCF4-427A-BDDC-689A3F34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717B-DC28-4D96-A59F-E1243AA3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BC0F-ADCF-4C1B-919C-3DDD20BC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BF43-47A9-4ECF-9564-59682F6D2E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CDED-989B-449F-A9B4-E97C80C048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00000" y="170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en-US" sz="4800" spc="-1" strike="noStrike">
                <a:solidFill>
                  <a:srgbClr val="ff5050"/>
                </a:solidFill>
                <a:latin typeface="Bodoni MT Black"/>
              </a:rPr>
              <a:t>Формы, методы и средства дистанционного обучения.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99360" y="3927240"/>
            <a:ext cx="6889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Авторы проект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Arial"/>
              </a:rPr>
              <a:t>Логинова Снежана Александр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66ff66"/>
                </a:solidFill>
                <a:latin typeface="Arial"/>
              </a:rPr>
              <a:t>Караваева Галина Павловна 636 гр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50"/>
                </a:solidFill>
                <a:latin typeface="Arial"/>
              </a:rPr>
              <a:t>Программно-техническое обеспечение, необходимое для проведения учебного проек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9966"/>
                </a:solidFill>
                <a:latin typeface="Arial"/>
              </a:rPr>
              <a:t>Компьютер(ы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66"/>
                </a:solidFill>
                <a:latin typeface="Arial"/>
              </a:rPr>
              <a:t>Видеомагнитофон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9966"/>
                </a:solidFill>
                <a:latin typeface="Arial"/>
              </a:rPr>
              <a:t>Проекционная систе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5050"/>
                </a:solidFill>
                <a:latin typeface="Arial"/>
              </a:rPr>
              <a:t>Литература: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Андреев А.А. Солдаткин В.И. Дистанционное образование сущность, технология, организация. М.: Из – во МЭСИ, 1999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Захарова И.Г. Информационные технологии  в образовании. М.: Издательский центр «Академия» 200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Молат Е.С. Дистанционное обучение: организующие педагогические аспекты, Инфо – 1996. - № 3 – с. 87 – 9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Шабанов А.Г. Формы методы и средства в дистанционном обучении. Инновации в образовании – 2005 № 2 – с. 102 - 1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5050"/>
                </a:solidFill>
                <a:latin typeface="Arial"/>
              </a:rPr>
              <a:t>Приглашаем к активному участию в нашем проект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5050"/>
                </a:solidFill>
                <a:latin typeface="Arial"/>
              </a:rPr>
              <a:t>Дистанционное образование это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Дистанционное образов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1692360" y="4005360"/>
            <a:ext cx="172728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4005360"/>
            <a:ext cx="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724360" y="4005360"/>
            <a:ext cx="187200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1280" y="3141720"/>
            <a:ext cx="7848360" cy="1224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Дистанционное образовани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0920" y="5229360"/>
            <a:ext cx="2736720" cy="79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Самостоятель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419640" y="5589720"/>
            <a:ext cx="2520720" cy="7696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Усвоение и приобретение знан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00720" y="5013360"/>
            <a:ext cx="2498760" cy="7905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Повышение компетент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768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6" dur="768" fill="hold"/>
                                        <p:tgtEl>
                                          <p:spTgt spid="2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8" dur="768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0" dur="768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5050"/>
                </a:solidFill>
                <a:latin typeface="Arial"/>
              </a:rPr>
              <a:t>Дистанционное образование, что это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80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58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Arial"/>
              </a:rPr>
              <a:t>Дистанционное образование</a:t>
            </a: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 - комплекс образовательных услуг, предоставляемых населению , в стране и за рубежом  с помощью специализированной информационно-образовательной среды на любом расстоянии от образовательных учрежден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Arial"/>
              </a:rPr>
              <a:t>Дистанционное обучение</a:t>
            </a: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 - образовательная система на основе компьютерных телекоммуникаций с использованием современных педагогических и информационных технологий ,таких как, электронная почта, телевидение и Интернет.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5050"/>
                </a:solidFill>
                <a:latin typeface="Impact"/>
              </a:rPr>
              <a:t>Цель нашего проекта: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66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9966"/>
                </a:solidFill>
                <a:latin typeface="Arial"/>
              </a:rPr>
              <a:t>Познакомить студентов с формами, методами и средствами дистанционного обучения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5050"/>
                </a:solidFill>
                <a:latin typeface="Bodoni MT Black"/>
              </a:rPr>
              <a:t>Проблемные вопросы: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66"/>
                </a:solidFill>
                <a:latin typeface="Arial"/>
              </a:rPr>
              <a:t>1)  Какие методы будут более эффективны при дистанционном обучении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66"/>
                </a:solidFill>
                <a:latin typeface="Arial"/>
              </a:rPr>
              <a:t>2)  Как организовать дистанционное обучени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66"/>
                </a:solidFill>
                <a:latin typeface="Arial"/>
              </a:rPr>
              <a:t>3)  Какие средства можно использовать при дистанционном обучении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2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5050"/>
                </a:solidFill>
                <a:latin typeface="Arial"/>
              </a:rPr>
              <a:t>Участники исследования: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24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99"/>
                </a:solidFill>
                <a:latin typeface="Arial"/>
              </a:rPr>
              <a:t>Студенты Педколледжа № 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5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5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5050"/>
                </a:solidFill>
                <a:latin typeface="Arial"/>
              </a:rPr>
              <a:t>Методические задачи: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66"/>
                </a:solidFill>
                <a:latin typeface="Arial"/>
              </a:rPr>
              <a:t>1)Формирование компетентности в области дистанционного обуче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66"/>
                </a:solidFill>
                <a:latin typeface="Arial"/>
              </a:rPr>
              <a:t>2) Сформировать представления о дистанционном обучени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66"/>
                </a:solidFill>
                <a:latin typeface="Arial"/>
              </a:rPr>
              <a:t>3)Развитие самостоятельности в сфере дистанционного обуче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5050"/>
                </a:solidFill>
                <a:latin typeface="Arial"/>
              </a:rPr>
              <a:t>Краткая аннотация проекта: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4800" spc="-1" strike="noStrike">
                <a:solidFill>
                  <a:srgbClr val="ff9966"/>
                </a:solidFill>
                <a:latin typeface="Arial"/>
              </a:rPr>
              <a:t>Наш проект направлен на формирование у студентов определённых знаний, умений и навыков в области дистанционного обучения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5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98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5050"/>
                </a:solidFill>
                <a:latin typeface="Arial"/>
              </a:rPr>
              <a:t>Для выполнения нашего проекта требуется :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66"/>
                </a:solidFill>
                <a:latin typeface="Arial"/>
              </a:rPr>
              <a:t>    </a:t>
            </a:r>
            <a:r>
              <a:rPr b="1" lang="en-US" sz="5400" spc="-1" strike="noStrike">
                <a:solidFill>
                  <a:srgbClr val="ff9966"/>
                </a:solidFill>
                <a:latin typeface="Arial"/>
              </a:rPr>
              <a:t>2 – 4 учебных час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5050"/>
                </a:solidFill>
                <a:latin typeface="Arial"/>
              </a:rPr>
              <a:t>Компетентности которые формирует наш проект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55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66"/>
                </a:solidFill>
                <a:latin typeface="Arial"/>
              </a:rPr>
              <a:t>1)В сфере самостоятельной деятельност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66"/>
                </a:solidFill>
                <a:latin typeface="Arial"/>
              </a:rPr>
              <a:t>2)Основанные на усвоении способов     приобретения знаний из различных источников информаци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6:16:31Z</dcterms:created>
  <dc:creator>Customer</dc:creator>
  <dc:description/>
  <dc:language>en-US</dc:language>
  <cp:lastModifiedBy>Customer</cp:lastModifiedBy>
  <dcterms:modified xsi:type="dcterms:W3CDTF">2009-05-29T13:54:43Z</dcterms:modified>
  <cp:revision>11</cp:revision>
  <dc:subject/>
  <dc:title>Формы, методы и средства дистанционного обучения. </dc:title>
</cp:coreProperties>
</file>